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78896"/>
        <c:axId val="72640973"/>
      </c:barChart>
      <c:catAx>
        <c:axId val="79178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40973"/>
        <c:crosses val="autoZero"/>
        <c:auto val="1"/>
        <c:lblAlgn val="ctr"/>
        <c:lblOffset val="100"/>
        <c:noMultiLvlLbl val="0"/>
      </c:catAx>
      <c:valAx>
        <c:axId val="72640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78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A8B-9EFF-4129-AEAD-59E71BD9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E6B-3BEE-4811-8C7C-0BA472C9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C6E-72BC-42A6-A8F7-720DD73F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56B-E1AD-4784-8006-C3FC5BBE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AE6-31B3-4F45-A07D-BAD4C4E3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AF9-EFD1-4D49-9B97-8626CC62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EAD-54EC-4908-BE57-A52EE174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38A-743A-4D7F-9AB0-2C73442C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038-D9C9-4401-8D65-592F9A07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548-AA6C-49BC-85F1-325E4F90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10AD-5B62-425A-A378-CBD49F56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AD6-DC56-4D5B-8D18-BA66AF2F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4F564-20EA-426F-B99A-D58DBFA0A6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