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029867"/>
        <c:axId val="12207149"/>
      </c:barChart>
      <c:catAx>
        <c:axId val="700298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207149"/>
        <c:crosses val="autoZero"/>
        <c:auto val="1"/>
        <c:lblAlgn val="ctr"/>
        <c:lblOffset val="100"/>
        <c:noMultiLvlLbl val="0"/>
      </c:catAx>
      <c:valAx>
        <c:axId val="122071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0298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EFB4-5DCE-4F6D-BA04-348C7113D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DFE4-5A89-4C10-BDE6-2A4E4ABB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7C53-3419-44D0-B25A-203359E9E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F564-2FA3-47DD-8628-D9E295250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0427-9B47-4573-ADD0-43C9F25C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F54F-6311-4DED-AC33-BEB5B22F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BEDD-E383-4673-B336-FAA3E24C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12A8-674F-4988-B536-68CA423E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BAAB-119F-4510-9825-F643E3C7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7466-4DBC-4051-AEA5-6A995DC9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9A2D-CA33-400D-84CE-6AD931B6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073C-3627-4D50-8C68-8BA0BAF7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946DEC-2109-4718-8881-B077E33B08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