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3D6-077B-46D1-9E8E-28B1C9D6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618-8422-43E5-95B5-7523AD46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E28-605A-4FA2-9A35-ECBC37D4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D52-CF20-4153-8524-BECCCEAB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BB4-8A58-41B1-A227-BE24AD6C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D08-0575-43B1-B38F-B44F0FC9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375-792F-45F7-BE68-A1761121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680-F167-4679-807C-D124051B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C4B-834F-42D9-BE5E-A5859323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33C-6B5B-4496-AEA5-09F1B252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F80-A330-44B4-A899-7191AFDF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B73-47E7-4738-BAC9-6F4CFD86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6C0D-0A4B-4BE5-8885-E2176BD86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s applied to other column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648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6440" y="3809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1720" y="2819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3526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block row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tr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railing sub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657600"/>
            <a:ext cx="175248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7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3809880"/>
            <a:ext cx="76212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8098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886200"/>
            <a:ext cx="228600" cy="60948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962520"/>
            <a:ext cx="2286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30492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962520"/>
            <a:ext cx="1522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996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820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2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03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4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20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276720"/>
            <a:ext cx="228600" cy="53316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3962520"/>
            <a:ext cx="60984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09320" y="210996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41911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matrix to 2x4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133720"/>
            <a:ext cx="0" cy="3429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133720"/>
            <a:ext cx="57150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28954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8680" y="2128680"/>
            <a:ext cx="1444680" cy="419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144792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762120" cy="68580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8195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419720"/>
            <a:ext cx="221004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5812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19720"/>
            <a:ext cx="7617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481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9528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55627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5791320"/>
            <a:ext cx="14475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57913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209680"/>
            <a:ext cx="914400" cy="7621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581280"/>
            <a:ext cx="1143000" cy="304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4038480"/>
            <a:ext cx="762120" cy="30492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4038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438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048120"/>
            <a:ext cx="20574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105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10552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25780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419720"/>
            <a:ext cx="13716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5791320"/>
            <a:ext cx="6858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25780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>
            <a:off x="2895120" y="2666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133720" y="32767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6483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0199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124080"/>
            <a:ext cx="914400" cy="30492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0552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2160" y="28144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line of next three iterations, original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‘pan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 factorization of  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t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35268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aximum element in current column (pivo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a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rows within the current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w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911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0"/>
            <a:endCxn id="91" idx="3"/>
          </p:cNvCxnSpPr>
          <p:nvPr/>
        </p:nvCxnSpPr>
        <p:spPr>
          <a:xfrm flipH="1" flipV="1" rot="5400000">
            <a:off x="2172240" y="3846960"/>
            <a:ext cx="694440" cy="10080"/>
          </a:xfrm>
          <a:prstGeom prst="curvedConnector5">
            <a:avLst>
              <a:gd name="adj1" fmla="val 6172"/>
              <a:gd name="adj2" fmla="val 1200000"/>
              <a:gd name="adj3" fmla="val 617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current column by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09680" y="3352680"/>
            <a:ext cx="30492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192"/>
                </a:lnTo>
                <a:lnTo>
                  <a:pt x="192" y="1152"/>
                </a:lnTo>
                <a:lnTo>
                  <a:pt x="0" y="115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ne modification within panel (pd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until block is fact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35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pivot information to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51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3:24:48Z</dcterms:created>
  <dc:creator>marybeth</dc:creator>
  <dc:description/>
  <dc:language>en-US</dc:language>
  <cp:lastModifiedBy>jglewis</cp:lastModifiedBy>
  <dcterms:modified xsi:type="dcterms:W3CDTF">2005-11-07T23:27:06Z</dcterms:modified>
  <cp:revision>4</cp:revision>
  <dc:subject/>
  <dc:title>ScaLAPACK Tuning </dc:title>
</cp:coreProperties>
</file>