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AFCD-4BE4-4067-8F8F-ED7135C7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8F03-6C3A-4B50-9CB1-8A8AE308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5454-39BE-440A-B0CD-EEE1F7CB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DC00-22A0-405B-9542-B496E930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FAE3-7BCB-4D72-80AB-4154301C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7162-F277-4FE5-A64B-0A4E8E8D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7F56-BB04-4B13-9933-BA9F28E1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A813-1843-4375-8443-0B203292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8784-126E-4F0A-B8A6-20B55336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EFFB-C558-4A84-860B-844AC1A9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73F0-98BE-4275-A075-993E4018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EB50-9897-4805-825A-94EC8760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41A1-80D6-4994-BEE3-7E7F992E6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3352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onal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vots applied to other column pa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350532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464832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6440" y="38098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71720" y="28195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3352680"/>
            <a:ext cx="380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 block row of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trs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railing sub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ge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3657600"/>
            <a:ext cx="1752480" cy="1523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25780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3124080"/>
            <a:ext cx="76176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8168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57800" y="3809880"/>
            <a:ext cx="76212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3809880"/>
            <a:ext cx="76176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38098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8098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86400" y="3886200"/>
            <a:ext cx="228600" cy="609480"/>
          </a:xfrm>
          <a:prstGeom prst="rect">
            <a:avLst/>
          </a:prstGeom>
          <a:solidFill>
            <a:srgbClr val="ff00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86400" y="3962520"/>
            <a:ext cx="2286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3962520"/>
            <a:ext cx="30492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3962520"/>
            <a:ext cx="1522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342900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3996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820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0224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4032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244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208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86400" y="3276720"/>
            <a:ext cx="228600" cy="533160"/>
          </a:xfrm>
          <a:prstGeom prst="rect">
            <a:avLst/>
          </a:prstGeom>
          <a:solidFill>
            <a:srgbClr val="ff00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962520"/>
            <a:ext cx="6094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96080" y="3962520"/>
            <a:ext cx="60984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34320" y="3962520"/>
            <a:ext cx="6094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309320" y="2109960"/>
            <a:ext cx="707868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0080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924680" y="41911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 matrix to 2x4 gr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2133720"/>
            <a:ext cx="0" cy="3429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33720" y="2133720"/>
            <a:ext cx="5715000" cy="3733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2133720"/>
            <a:ext cx="289548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28680" y="2128680"/>
            <a:ext cx="1444680" cy="419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133720"/>
            <a:ext cx="144792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913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1629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771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2133720"/>
            <a:ext cx="762120" cy="68580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33720" y="28195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81280" y="4419720"/>
            <a:ext cx="221004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91320" y="3581280"/>
            <a:ext cx="685800" cy="60984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41911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4419720"/>
            <a:ext cx="76176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95480" y="3048120"/>
            <a:ext cx="213372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4952880"/>
            <a:ext cx="685800" cy="60984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33720" y="55627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33720" y="5791320"/>
            <a:ext cx="144756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5791320"/>
            <a:ext cx="213372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2209680"/>
            <a:ext cx="914400" cy="76212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3581280"/>
            <a:ext cx="1143000" cy="30492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4038480"/>
            <a:ext cx="762120" cy="30492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3720" y="2438280"/>
            <a:ext cx="76176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2666880"/>
            <a:ext cx="76176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29200" y="243828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29200" y="266688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40384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95480" y="24382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81280" y="38098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3048120"/>
            <a:ext cx="20574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91320" y="38098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91320" y="40384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43400" y="5105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510552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43400" y="5257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525780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77120" y="4419720"/>
            <a:ext cx="13716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62920" y="5791320"/>
            <a:ext cx="6858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95480" y="38098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40384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525780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>
            <a:off x="2895120" y="2666520"/>
            <a:ext cx="2134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133720" y="32767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46483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33720" y="60199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2280" y="3124080"/>
            <a:ext cx="914400" cy="30492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294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436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56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98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6232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510552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32160" y="2814480"/>
            <a:ext cx="3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meline of next three iterations, original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3352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‘pan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 factorization of  diagonal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get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3352680"/>
            <a:ext cx="3581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maximum element in current column (pivo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ama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p rows within the current pa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sw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419112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42900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2" idx="0"/>
            <a:endCxn id="91" idx="3"/>
          </p:cNvCxnSpPr>
          <p:nvPr/>
        </p:nvCxnSpPr>
        <p:spPr>
          <a:xfrm flipH="1" flipV="1" rot="5400000">
            <a:off x="2172240" y="3846960"/>
            <a:ext cx="694440" cy="10080"/>
          </a:xfrm>
          <a:prstGeom prst="curvedConnector5">
            <a:avLst>
              <a:gd name="adj1" fmla="val 6172"/>
              <a:gd name="adj2" fmla="val 1200000"/>
              <a:gd name="adj3" fmla="val 6172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e current column by 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s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09680" y="3352680"/>
            <a:ext cx="304920" cy="1828800"/>
          </a:xfrm>
          <a:custGeom>
            <a:avLst/>
            <a:gdLst/>
            <a:ahLst/>
            <a:rect l="l" t="t" r="r" b="b"/>
            <a:pathLst>
              <a:path w="192" h="1152">
                <a:moveTo>
                  <a:pt x="0" y="0"/>
                </a:moveTo>
                <a:lnTo>
                  <a:pt x="192" y="192"/>
                </a:lnTo>
                <a:lnTo>
                  <a:pt x="192" y="1152"/>
                </a:lnTo>
                <a:lnTo>
                  <a:pt x="0" y="1152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k one modification within panel (pd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eat until block is facto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33526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adcast pivot information to all 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5998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905120" y="3505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146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3505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3505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35053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23:24:48Z</dcterms:created>
  <dc:creator>marybeth</dc:creator>
  <dc:description/>
  <dc:language>en-US</dc:language>
  <cp:lastModifiedBy>jglewis</cp:lastModifiedBy>
  <dcterms:modified xsi:type="dcterms:W3CDTF">2005-11-07T23:27:06Z</dcterms:modified>
  <cp:revision>4</cp:revision>
  <dc:subject/>
  <dc:title>ScaLAPACK Tuning </dc:title>
</cp:coreProperties>
</file>