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62436"/>
        <c:axId val="49751373"/>
      </c:barChart>
      <c:catAx>
        <c:axId val="63262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51373"/>
        <c:crosses val="autoZero"/>
        <c:auto val="1"/>
        <c:lblAlgn val="ctr"/>
        <c:lblOffset val="100"/>
        <c:noMultiLvlLbl val="0"/>
      </c:catAx>
      <c:valAx>
        <c:axId val="497513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62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404D-50EE-47E2-A8E0-C1E09E03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86D6-6D05-4F93-A120-0AA6D192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9363-D938-4465-94E7-06D65D48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49AB-5A97-43ED-9F07-82213286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B24-3B4B-4C0C-BEC5-70666DFC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EA61-54F4-4D33-96AA-D3DC056B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0152-9996-498B-888A-36D8CB24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C71D-C26B-41EA-94C0-991FF612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CAAD-9C7E-4189-A449-0484506B4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033-83A0-495C-9578-1D4766D8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E2EE-006D-4B36-9A2D-3BEDA34C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FE5-5DB1-4E6F-ABA8-1F7C845A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EB4A3-31E8-4A5A-B725-CCA4087821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