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096C-7B28-4963-BA26-481593A37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A4AA-14EE-4F1D-B0A7-562B124E7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C788-BDA4-4CEF-855C-A51DD4959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4054-4136-4597-9A20-B9B572034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2835-FAAA-4A05-B95E-E17C92A58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BFBD-6796-42B8-BB0D-0029418C3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6F52-B9D9-4474-AC25-3A314E76B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B039-746F-4918-A545-FA0E1EB4D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F8F9-D0B9-48E8-A6A5-1AFCDF857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57CB-1046-4DFD-9DB2-0690CD694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1B6A-4D1F-45D4-B3ED-25E44B2A0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D4BB-9940-427B-9160-ED2C4C6E6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62D49-92D9-4C89-ABED-CA2DEFE157E2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ＳｌｏｔｈＬｉｂＴｅｓ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これはテストのためのドキュメントです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なかだ</cp:lastModifiedBy>
  <dcterms:modified xsi:type="dcterms:W3CDTF">2008-04-10T04:52:20Z</dcterms:modified>
  <cp:revision>1</cp:revision>
  <dc:subject/>
  <dc:title>PowerPoint Presentation</dc:title>
</cp:coreProperties>
</file>