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38128"/>
        <c:axId val="74274024"/>
      </c:barChart>
      <c:catAx>
        <c:axId val="59938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74024"/>
        <c:crosses val="autoZero"/>
        <c:auto val="1"/>
        <c:lblAlgn val="ctr"/>
        <c:lblOffset val="100"/>
        <c:noMultiLvlLbl val="0"/>
      </c:catAx>
      <c:valAx>
        <c:axId val="74274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38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CC7-393B-4445-8613-C74965DD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9B3-0D44-4A17-ACE8-582A8090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866-E93F-4743-A4BC-EE61DFEE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371-19D5-46B4-9BE4-90223B00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BD8-4F5F-4361-9981-BD71781E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97F-B27D-4D57-B13F-972D275C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91C-0962-46F6-A450-991041F4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403-C495-4580-9ED4-3871BDE6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D87-94AB-4F87-86BE-712253BE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82F-4A26-4FBF-B522-99154417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094-84CD-4946-A86F-E25C5AE9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3AB-05D4-483F-BA6B-600DF106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32953-CDE9-4927-87C0-5145E4DBBB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