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24173"/>
        <c:axId val="89464241"/>
      </c:barChart>
      <c:catAx>
        <c:axId val="29424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64241"/>
        <c:crosses val="autoZero"/>
        <c:auto val="1"/>
        <c:lblAlgn val="ctr"/>
        <c:lblOffset val="100"/>
        <c:noMultiLvlLbl val="0"/>
      </c:catAx>
      <c:valAx>
        <c:axId val="89464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4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25D-C982-4A13-A941-4339DAC8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C51-0203-44F1-BBC7-3F6311A4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2D3-F169-4097-8F63-5DC3A50C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67C-186E-4974-B14C-DD73249A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6F9-8F86-4E03-9991-B705370B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9E3-1C35-4C09-94E6-16B54F12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159-2320-41DC-872F-119D897B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C6E-495B-4D6F-AA07-BBB6BBF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56E-12AC-4F02-9916-4216316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006-A2D4-45FC-B8BE-F9BA632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95E-9EF0-4338-821F-D1132C1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A6D-CC06-44D0-B653-ED6E300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A5D34-9D5A-46B6-8F80-A4657B912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