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76343"/>
        <c:axId val="30526996"/>
      </c:barChart>
      <c:catAx>
        <c:axId val="82676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26996"/>
        <c:crosses val="autoZero"/>
        <c:auto val="1"/>
        <c:lblAlgn val="ctr"/>
        <c:lblOffset val="100"/>
        <c:noMultiLvlLbl val="0"/>
      </c:catAx>
      <c:valAx>
        <c:axId val="30526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76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5D9-E251-4E43-AD17-F257653B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602-1787-4A4A-B4A9-06E4AA45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183-272D-4B94-8FCC-5297EBED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149-CD2C-464F-A584-D0C54FAC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925-5289-4A58-880C-81B1D3E6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449-8226-4489-815B-46FE008F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636-1FDB-4284-873E-8C12E0B6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654-236E-4C27-8A53-FB510928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082-413D-421D-9E55-4C594927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7E8-EC18-44A3-8B39-741F3795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C9A-AB42-4FFC-A26D-10C747E6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7D9-E305-4118-9C66-5CA038D3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A35CA-9C76-4C62-8167-B22AAA732A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