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05982"/>
        <c:axId val="43492821"/>
      </c:barChart>
      <c:catAx>
        <c:axId val="50105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92821"/>
        <c:crosses val="autoZero"/>
        <c:auto val="1"/>
        <c:lblAlgn val="ctr"/>
        <c:lblOffset val="100"/>
        <c:noMultiLvlLbl val="0"/>
      </c:catAx>
      <c:valAx>
        <c:axId val="43492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05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7E0-B423-4BCE-8C2F-F02F0797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F15-8728-45A8-9591-AB4B3BE2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14F-A411-423E-A721-A8A670B3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636-7BC8-4614-801C-779951FC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A03-4167-44C3-ADFB-C47906B1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DA3-3EB9-4904-8B6A-748FCD57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A5A-BEBF-4F57-A935-7DD83A11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AE7-7009-4A2E-9065-6C276AEE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F85-BA20-436B-8382-F9AE7587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49F-35EF-4D49-BCD0-A1B0A5FE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051-2338-4D63-B5AC-B98DD4A1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0C8-888B-4783-AF8E-FB4A4ED3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B9E18-5E31-428D-84C2-707450893D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