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82618"/>
        <c:axId val="87118595"/>
      </c:barChart>
      <c:catAx>
        <c:axId val="20182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18595"/>
        <c:crosses val="autoZero"/>
        <c:auto val="1"/>
        <c:lblAlgn val="ctr"/>
        <c:lblOffset val="100"/>
        <c:noMultiLvlLbl val="0"/>
      </c:catAx>
      <c:valAx>
        <c:axId val="87118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82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CF4-0063-4F68-B25C-749513AD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A52-360B-4C42-8F45-AE54C87C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633-3A9E-4E92-BBAD-EA309ECD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B17-D4EE-470A-91DB-13E9EFE7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304-2771-439D-9A22-82A28624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477-AD3E-4C07-B4D7-FD1595A8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E7B-8BD2-4DB5-BB2E-8B354FED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DA1-E649-493A-B05B-B2B6407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CC4-644F-4937-8014-E1F0368E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CC0-DD4F-4BD2-B9F6-88EC1756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ED3-97AF-463E-AFB0-4729F5F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32B-C118-494A-9B10-EB01E78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39FCB-2C3A-4429-81F8-EABEF70BB2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