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13166"/>
        <c:axId val="96452343"/>
      </c:barChart>
      <c:catAx>
        <c:axId val="10813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52343"/>
        <c:crosses val="autoZero"/>
        <c:auto val="1"/>
        <c:lblAlgn val="ctr"/>
        <c:lblOffset val="100"/>
        <c:noMultiLvlLbl val="0"/>
      </c:catAx>
      <c:valAx>
        <c:axId val="96452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13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514-C27A-4CFC-BD1D-769E7B2F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3B1-86D7-4FA7-8ECD-056C48C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F27-D01A-4E23-93F8-57A564D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DDF-3A33-44CF-A248-8781C49F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EB4-570B-4EE2-8761-0555A763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BC0-722D-4DCC-9CBC-FAB71AD7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118-A080-4169-84D5-37198A62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3ED-EA60-4BB3-AE3F-D9AFAA6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BA4-FB9F-4957-AB86-3A9CBF1A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9D6-DE58-4416-BDB8-9087692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27C-67A6-4F62-9748-319EBD3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1CC-09B3-43D2-B073-88B1551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35FB-19F8-44B4-AFF4-A975D2277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