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85467"/>
        <c:axId val="37130175"/>
      </c:barChart>
      <c:catAx>
        <c:axId val="50985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30175"/>
        <c:crosses val="autoZero"/>
        <c:auto val="1"/>
        <c:lblAlgn val="ctr"/>
        <c:lblOffset val="100"/>
        <c:noMultiLvlLbl val="0"/>
      </c:catAx>
      <c:valAx>
        <c:axId val="37130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85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04A-1D90-4614-9283-8B74BFBB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2BC-EF25-4868-94BC-3E33B7E9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092-5CA0-427B-A6D1-9A94BFE8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3B8-29A3-4411-85E2-A68C7269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575-0F0F-410F-A13F-E4026B20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4B4-9729-4A63-ABC7-D67BDC99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2ED-9245-45ED-A8D8-972D55CA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C33-C17E-4263-BD16-20184184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08A-6E92-437D-9CDC-6234E0F4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89B-C726-41A7-8B50-1597CFE9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3AA-4D9C-4938-B299-986460BD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EA1-D430-47BE-ACBE-B0FB77B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2B43A-5506-4A35-9B5E-3B1338B6BC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