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044813"/>
        <c:axId val="34716022"/>
      </c:barChart>
      <c:catAx>
        <c:axId val="26044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16022"/>
        <c:crosses val="autoZero"/>
        <c:auto val="1"/>
        <c:lblAlgn val="ctr"/>
        <c:lblOffset val="100"/>
        <c:noMultiLvlLbl val="0"/>
      </c:catAx>
      <c:valAx>
        <c:axId val="347160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4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872B-AD51-43B2-B468-8F9016CC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B912-2B23-4729-8584-446C691D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3C5-98CA-4770-873E-B1A7F2DC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3F89-462F-4FC7-A4D2-81EDFC0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5564-8632-42A4-9475-107F55CF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1B4-2E4E-4C2E-9BA9-B8A8218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C38-D08F-4269-A10D-CD98FE2F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C6E-CFF4-4E3A-B255-16F117A8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99E-E151-41F4-9A98-52036600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557-76A0-4AE4-BAA9-E9A2FABC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6CF-2EF0-41CE-9A96-113DFA3D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6E4-495C-4A9C-8899-02AEC38E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526D0-22FF-46B6-9372-3758621D44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