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971159"/>
        <c:axId val="85815033"/>
      </c:barChart>
      <c:catAx>
        <c:axId val="129711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15033"/>
        <c:crosses val="autoZero"/>
        <c:auto val="1"/>
        <c:lblAlgn val="ctr"/>
        <c:lblOffset val="100"/>
        <c:noMultiLvlLbl val="0"/>
      </c:catAx>
      <c:valAx>
        <c:axId val="858150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711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B63F-9C9A-405E-B509-1B7DDCDBC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AB0A-D3BB-4EFC-987B-13C1BEFB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7C2E-9F6A-491A-91CE-27A72234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2D94-36AB-49C5-8329-FC1530909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CDD8-8871-4D2E-A19E-23D9717E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B37E-74B2-4831-BE1F-4ABA9130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1679-56F4-46FE-A0A4-214766A4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B156-D0CA-4F70-9BD9-099905F4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F305-8D39-46CB-B270-05D67D05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5A21-6D34-48F6-B09B-F9A5DEDE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EC0F-DDAA-46E7-AD16-A09C6A50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8732-AFF8-4695-9C35-54BBDAA8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D6074-BEE9-418C-8D60-883A0E90CE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