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2789"/>
        <c:axId val="9587400"/>
      </c:barChart>
      <c:catAx>
        <c:axId val="9432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7400"/>
        <c:crosses val="autoZero"/>
        <c:auto val="1"/>
        <c:lblAlgn val="ctr"/>
        <c:lblOffset val="100"/>
        <c:noMultiLvlLbl val="0"/>
      </c:catAx>
      <c:valAx>
        <c:axId val="9587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2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542-610E-47E9-A86C-E2937F62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034-C608-406C-9D24-0A3D4D0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A67-3B77-47FC-BC62-4DB06874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797-B112-4381-A227-ABE86DC7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F0D-6897-4547-A4EF-4CC88498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2AF-DF43-4B6D-AADE-F4F9D61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25F-4428-456B-B2E6-B28F6A26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0DC-9330-4110-98AB-4CA9FA58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7B2-E3E8-45FD-895E-4285EB4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F46-1D16-4A98-A560-89699214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CA8-3274-4B50-8940-F909508C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0B8-E0C6-4AD3-879F-C9C726EF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21BF9-574E-42D8-A71C-4AF3928C45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