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11471"/>
        <c:axId val="28296804"/>
      </c:barChart>
      <c:catAx>
        <c:axId val="55811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96804"/>
        <c:crosses val="autoZero"/>
        <c:auto val="1"/>
        <c:lblAlgn val="ctr"/>
        <c:lblOffset val="100"/>
        <c:noMultiLvlLbl val="0"/>
      </c:catAx>
      <c:valAx>
        <c:axId val="28296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11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61E-64B2-464D-9996-7DAD735B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B1C-87ED-4CC0-9D6E-546C262E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8191-8F1E-476F-A16C-8B51BCFC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62C-2551-4332-9BA1-79D4AE13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903-5B87-4F6A-85BD-316D48A2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40E-1561-4494-9D28-49A30828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DEE-7DDB-4458-85E6-145DA439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DCC-E2E9-47E7-BBF3-FE22F1DE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FE8-1B67-4BC9-9638-F1262CB1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AD20-40F7-44DE-B814-727DDC4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408-DD9C-4C96-B5BE-CE027DFA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2D0-4723-4A9E-81D2-597F96A7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07925-CC58-4FDE-9A58-5FD254938B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