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17062"/>
        <c:axId val="75053446"/>
      </c:barChart>
      <c:catAx>
        <c:axId val="58117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53446"/>
        <c:crosses val="autoZero"/>
        <c:auto val="1"/>
        <c:lblAlgn val="ctr"/>
        <c:lblOffset val="100"/>
        <c:noMultiLvlLbl val="0"/>
      </c:catAx>
      <c:valAx>
        <c:axId val="75053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17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844-B6C3-4191-A7E8-C5D9C67A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CD0-09BF-4ED2-8214-41E2F010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C53-22FD-4F8C-BBE8-698FBA95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905-DB2F-4046-968B-621B5E60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7FD-0723-4C83-A735-ABCAA49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AAB-DAA6-418C-A1DB-9D361FF6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0F3-1E63-4A47-A366-E576300D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1E1-3CCE-466B-AB3A-C293684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B58-42B4-43CF-A980-7A089DA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401-118C-4EC9-9B01-3B4C42C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013-A9D4-496D-B0B8-8E394EE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68C-B61C-4529-95BF-997B6BEF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79AC7-EF1F-4E40-9261-1B6CD6704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