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12352"/>
        <c:axId val="10083734"/>
      </c:barChart>
      <c:catAx>
        <c:axId val="43812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83734"/>
        <c:crosses val="autoZero"/>
        <c:auto val="1"/>
        <c:lblAlgn val="ctr"/>
        <c:lblOffset val="100"/>
        <c:noMultiLvlLbl val="0"/>
      </c:catAx>
      <c:valAx>
        <c:axId val="10083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12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71D-CC03-4561-BB8E-0A37E6B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1D0-8073-463C-A3CA-CBBE313D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78C-1F2D-4634-8549-C3DE90B7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A1B-0824-40F9-9EEF-BC4AACAD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8C3-ADE0-46BA-AC00-3520529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A55-4C57-49E0-99A3-6B5A987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27C-E5D1-4DBD-8C9A-B41AEFB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98C-4871-49BF-9B30-13C768AF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639-809F-422F-BBA0-36E5687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B6E-6C14-4255-B039-438F38A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18E-B298-40D7-AFAC-2771730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CE7-4063-4105-9DC0-D5A1639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086DB-9293-4472-963B-F66F2F928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