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277411"/>
        <c:axId val="68452510"/>
      </c:barChart>
      <c:catAx>
        <c:axId val="65277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52510"/>
        <c:crosses val="autoZero"/>
        <c:auto val="1"/>
        <c:lblAlgn val="ctr"/>
        <c:lblOffset val="100"/>
        <c:noMultiLvlLbl val="0"/>
      </c:catAx>
      <c:valAx>
        <c:axId val="684525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77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E46-CABC-4194-88D3-80743E11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290B-1EA7-4BEF-B0CE-F4AE2CC4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D62-4BDC-4888-BD94-5C76A096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8AC-A500-4758-9A37-7933BBFDB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554A-AC46-48B6-A575-9428EBB3A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458B-CBD4-48CF-BC45-4D651E11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305B-DBE8-4B88-8911-6CA3E6AC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5DA7-B791-4FED-AE5C-6E7ABBEF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958F-EF10-4FAB-B947-BE228EBA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9559-03BC-4321-AC93-0131F91A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1DEF-AFDD-4CF7-BBF8-895E1FFF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318-4EBB-4516-8989-39B72FF8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3B55B9-FEDE-4FE7-9697-238DB4895D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