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850773"/>
        <c:axId val="82454926"/>
      </c:barChart>
      <c:catAx>
        <c:axId val="218507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54926"/>
        <c:crosses val="autoZero"/>
        <c:auto val="1"/>
        <c:lblAlgn val="ctr"/>
        <c:lblOffset val="100"/>
        <c:noMultiLvlLbl val="0"/>
      </c:catAx>
      <c:valAx>
        <c:axId val="82454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507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FA91-8230-4836-A4DB-6B83399F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5174-E8EA-4BAE-9EA9-89FBB8EA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6E7-4CB1-428E-87B6-EAE9B147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9340-B7C2-4ACD-835D-05238A77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13A4-5B1B-4D03-9B15-7E115144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D8D-12B7-41CC-A2F9-5F990D32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277B-2E02-4BF1-BA0C-C22132E4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2EE-E1B3-41B3-A041-37F9AB52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636-DE63-4323-9C3E-4DF3F88C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AE12-8ED8-49AB-88BC-05A50F87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CCA-4B2E-4020-8B53-818477E3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EA1-4BDC-4BAF-B85E-65AC0AB1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B1040-02AB-465E-AA3D-ABFE19A582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