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27991"/>
        <c:axId val="4126051"/>
      </c:barChart>
      <c:catAx>
        <c:axId val="69427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051"/>
        <c:crosses val="autoZero"/>
        <c:auto val="1"/>
        <c:lblAlgn val="ctr"/>
        <c:lblOffset val="100"/>
        <c:noMultiLvlLbl val="0"/>
      </c:catAx>
      <c:valAx>
        <c:axId val="4126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27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19E-C2F0-4A88-91A9-869C9E96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FE8-1005-427F-BECE-5F14EAFB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3CE-6B4D-4958-A186-B7D35178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B51-501A-4BE1-96A1-ABECD45D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415-1DEA-4345-B807-B9304201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569-1E80-4E57-9AC6-754B3AA4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1A6-65DB-4296-AC0A-1A49EEA4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BE4-4BA3-4046-818A-128B5C6A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288-B3EF-4A46-8FAC-7A08D86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A52-009F-4AB6-80FA-A6099AB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6EE-2291-4E19-A380-0DAC9BC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661-E8C8-45E8-8344-D4C7D54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1BE7E-4464-4B4D-97CE-6E793CF0F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