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76860"/>
        <c:axId val="32208756"/>
      </c:barChart>
      <c:catAx>
        <c:axId val="65076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08756"/>
        <c:crosses val="autoZero"/>
        <c:auto val="1"/>
        <c:lblAlgn val="ctr"/>
        <c:lblOffset val="100"/>
        <c:noMultiLvlLbl val="0"/>
      </c:catAx>
      <c:valAx>
        <c:axId val="3220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6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5EB-6784-4747-B1DD-B8CD99F8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B3A-6D1C-4840-BFFA-4341A634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4BF-4F91-41A5-B2E7-7EFFFDF2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ECE-C9EE-4C66-AEDC-7CFF3390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123-2558-4513-8BB5-F1BBE89D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C00-F2E7-4228-BA33-464415DB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D22-41AD-452C-A3BD-121B9C27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524-7FBE-4EA0-81C6-1DF7E28A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57A-7E09-403C-B12D-38C7219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748-82BC-49A7-A33D-3C93DFD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479-9723-4BFA-A531-FAA485E1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52C-2A52-404D-A43E-418D4A0F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6E70A-534B-4014-B06F-641CD284EF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