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27691"/>
        <c:axId val="28737956"/>
      </c:barChart>
      <c:catAx>
        <c:axId val="50727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37956"/>
        <c:crosses val="autoZero"/>
        <c:auto val="1"/>
        <c:lblAlgn val="ctr"/>
        <c:lblOffset val="100"/>
        <c:noMultiLvlLbl val="0"/>
      </c:catAx>
      <c:valAx>
        <c:axId val="28737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27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285-7D29-4037-AB3F-A3F0ACF4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0EB-78FE-482C-A2E1-BCF04C56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986-679E-4DE0-A2F4-C602F9D1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1F2-5E92-4BF8-9608-60932FA5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6BF-9878-4666-8315-0890592C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E07-AFAB-44E0-A6CB-E30EF934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09B-1212-47E5-B9DC-4946F168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902-3179-4E8C-9142-506F76F2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E16-EB7C-499C-9CC5-D284087D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384-450B-4494-A468-E667E9E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5E6-2FD0-4056-B91E-E1FAB1CE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81C-AAE8-4DAD-B8D1-B7565160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13D28-6788-4E51-BC23-18989A5E3C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