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40761"/>
        <c:axId val="14887476"/>
      </c:barChart>
      <c:catAx>
        <c:axId val="40740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7476"/>
        <c:crosses val="autoZero"/>
        <c:auto val="1"/>
        <c:lblAlgn val="ctr"/>
        <c:lblOffset val="100"/>
        <c:noMultiLvlLbl val="0"/>
      </c:catAx>
      <c:valAx>
        <c:axId val="14887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0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CFD-CDE1-4B48-A1F0-B4DD49A7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C10-C442-47B1-B84C-AAD5CFE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158-AFD1-437E-B92E-49E08A87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C04-9D8F-4F5E-8C69-3E8229FB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D08-AC81-4B30-847C-14C969DA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445-953D-4107-B082-8B9CA6A0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61C-7590-4937-A2A2-ECFA1CB9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C10-2EC8-436E-B602-B18C5E9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804-C728-42FA-BFED-86301DC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5EE-E662-4CBF-AD76-ED9A0A3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1DF-6BE3-45BA-9648-E796E0A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D3A-0047-4142-96B6-0FB0845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7B96D-BCDB-4B4B-A952-A0B4F8C50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