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378928"/>
        <c:axId val="60735658"/>
      </c:barChart>
      <c:catAx>
        <c:axId val="133789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735658"/>
        <c:crosses val="autoZero"/>
        <c:auto val="1"/>
        <c:lblAlgn val="ctr"/>
        <c:lblOffset val="100"/>
        <c:noMultiLvlLbl val="0"/>
      </c:catAx>
      <c:valAx>
        <c:axId val="607356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3789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0A8B-BE95-48E2-91CC-04BC75C44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740D-88B1-48E7-ADE7-E9C5987C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977F-1E39-4AAD-9C49-ED88E2EE2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8956-5817-418D-99D5-7ED5E895B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713C-1EE6-45A8-B77B-212CE493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4F92-CD80-4C34-B807-D32A3A48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4B21-B98B-4008-A9D9-7DFA4E61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CFE2-52F9-404F-83DA-1D6EE7D2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21C0-983A-4034-961D-C06CB102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2D55-7BAF-4261-8FF6-1FC37B22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EDAB-9FFC-4799-87FA-EC5113F8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1842-8B1F-45EE-93EE-51FB0970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CB46AB-FA0D-487F-BEDD-8C0EA9E19E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