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81110"/>
        <c:axId val="78965077"/>
      </c:barChart>
      <c:catAx>
        <c:axId val="85081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65077"/>
        <c:crosses val="autoZero"/>
        <c:auto val="1"/>
        <c:lblAlgn val="ctr"/>
        <c:lblOffset val="100"/>
        <c:noMultiLvlLbl val="0"/>
      </c:catAx>
      <c:valAx>
        <c:axId val="78965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81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DF1-3C43-4E99-96E5-0CD5062B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8572-D0B7-4EC1-B8B3-86E5D672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BEF-B2E7-45DD-8C79-7940B4CA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822-34D8-4D31-A329-2F93CF5B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3F5-1A6B-40C3-9CBE-719238FC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4F6-876D-4B9F-B4D3-9C14547E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61A-A6E4-4F9D-9947-58C73203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09B-51F2-462E-AB48-8F4D829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C36-F66A-4124-884E-22F05097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3F4-7639-4B5E-AFEA-4A3646CD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D63-3565-4CAA-B8D6-91B9025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049-412B-4018-B5D9-D0799456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346C9-9D27-4376-B389-6A6BF8881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