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82456"/>
        <c:axId val="61920461"/>
      </c:barChart>
      <c:catAx>
        <c:axId val="53782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20461"/>
        <c:crosses val="autoZero"/>
        <c:auto val="1"/>
        <c:lblAlgn val="ctr"/>
        <c:lblOffset val="100"/>
        <c:noMultiLvlLbl val="0"/>
      </c:catAx>
      <c:valAx>
        <c:axId val="61920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82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A2E-788E-4175-907F-083D604A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216-870F-4CAA-A25E-7A2D46A7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664-46CD-45C1-83B7-F01385B7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135-07E8-4E16-808F-E4BB165F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3CF-55B3-45D4-8717-9D2F0E41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7A6-01B7-4277-828D-F616AE53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8F9-5036-44E6-8AC3-71144A90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3F0-60C6-4C18-AF5A-E1CDDEBC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66E-ED30-450C-B8D3-E2038C21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8CF-8AAF-407A-A753-1025AA30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1AD-4024-4C3E-884B-E1EBC92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7B3-07FD-4DE8-8182-91FAD62B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20382-D565-451B-AAB5-D07FF64935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