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19693"/>
        <c:axId val="96060248"/>
      </c:barChart>
      <c:catAx>
        <c:axId val="73019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60248"/>
        <c:crosses val="autoZero"/>
        <c:auto val="1"/>
        <c:lblAlgn val="ctr"/>
        <c:lblOffset val="100"/>
        <c:noMultiLvlLbl val="0"/>
      </c:catAx>
      <c:valAx>
        <c:axId val="96060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19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588B-6933-41C8-AA3F-27E63ACB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EFD-490A-4E48-A556-146D42CA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5F0-D60F-49E5-8F05-E8901340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2CC-85BC-44E7-BF52-D491DD51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40C-CF18-48C8-9FC7-0BB3D3A7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813-586B-4392-AC7F-D9A6F4B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2DE-B89E-411F-8D16-30F6FCAF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A25-6213-41BB-B9CE-6829D326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ECE-3C64-4BCA-B237-8646481A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51B-32BD-4AE5-83A0-0CD4053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1C1-F14D-4068-AFB4-3218D638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17C-6045-4E88-B3D3-0F714EBC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0F830-B476-45B2-B3E0-53E76FB5D4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