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93193"/>
        <c:axId val="54781898"/>
      </c:barChart>
      <c:catAx>
        <c:axId val="77493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81898"/>
        <c:crosses val="autoZero"/>
        <c:auto val="1"/>
        <c:lblAlgn val="ctr"/>
        <c:lblOffset val="100"/>
        <c:noMultiLvlLbl val="0"/>
      </c:catAx>
      <c:valAx>
        <c:axId val="54781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93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455-F10E-4198-8872-5CCA29CA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92C-823B-4B7B-AEF5-C9F94C64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D5B-1E34-45AF-BA21-3FB8CA71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47B-4FFB-4838-AD53-F0134BAE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B7C-4266-4E31-9153-11C2D6E7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FAB-06D1-4700-B789-383B30A9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543-B1E9-4D57-8968-2DDA2DD0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9AB-59A6-4C78-81B3-0EF4090A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DE9-F73A-4154-B4B5-949D2439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585-4249-4AE6-89A5-9FB1D555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9A9-A48A-4DF3-BFAE-A747F79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2B3-CCBD-44BC-AA69-481FB1D7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1EB0A-962D-4072-A4FF-CF71A1FD4F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