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15038"/>
        <c:axId val="59194363"/>
      </c:barChart>
      <c:catAx>
        <c:axId val="30215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4363"/>
        <c:crosses val="autoZero"/>
        <c:auto val="1"/>
        <c:lblAlgn val="ctr"/>
        <c:lblOffset val="100"/>
        <c:noMultiLvlLbl val="0"/>
      </c:catAx>
      <c:valAx>
        <c:axId val="59194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15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534-511F-45EA-9A38-19DD56BD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B26-4F62-4976-9E88-94C87E0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F77-4119-4876-A7CD-F22AC65F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4EE-8B59-4728-AA36-A7614365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F98-A2C6-461B-949A-ABA4005B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145-6034-4457-B47E-84BBFA0C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92A-BC9E-428C-9AB1-99EE515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252-9802-4BBE-9318-A04810D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15E-A6F0-455A-AC59-76A758F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C179-7252-4B15-B5B8-38DD706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13E-3610-41D9-A38D-3BBEB25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851-55D3-442A-B002-313DD9E3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209CE-8F01-4777-8157-527D0C943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