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62714"/>
        <c:axId val="39692719"/>
      </c:barChart>
      <c:catAx>
        <c:axId val="14362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92719"/>
        <c:crosses val="autoZero"/>
        <c:auto val="1"/>
        <c:lblAlgn val="ctr"/>
        <c:lblOffset val="100"/>
        <c:noMultiLvlLbl val="0"/>
      </c:catAx>
      <c:valAx>
        <c:axId val="39692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62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8B1-84C1-4DB5-97BD-D9A2E390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4E-8BB2-431F-9D47-F64CC79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8ED-BA94-4A75-B5EA-5D1A59D5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BE0-DC34-4965-A44A-0E52D125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8C3-560B-4C9B-9D8B-8A81A11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C5A-AE00-4F16-B56D-7C809C4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00F-404D-4235-BA46-7EFBB81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634-BB48-46AD-8F96-47B7FBB1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2E1-1E28-47F6-9074-24DD26D0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FE2-3FAC-4B6F-9EBC-EFECB0F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9BF-F289-46C2-B13B-6FBB102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747-D8A1-4C3A-9BC2-A2F48F7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87382-14D5-45E8-97FA-5A92E278C1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