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68824"/>
        <c:axId val="61099883"/>
      </c:barChart>
      <c:catAx>
        <c:axId val="80868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9883"/>
        <c:crosses val="autoZero"/>
        <c:auto val="1"/>
        <c:lblAlgn val="ctr"/>
        <c:lblOffset val="100"/>
        <c:noMultiLvlLbl val="0"/>
      </c:catAx>
      <c:valAx>
        <c:axId val="61099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68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190-AC5E-4624-B314-184E1335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B89-485C-41D3-9DE9-29B6F52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8E5-091A-4111-885A-281D7220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87A-9A0B-4B39-A970-05C9336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D86-12C8-4C4E-B7C6-A509B6B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C6B-23A2-4837-9627-0F9BE10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0BE-34A2-4270-8C80-8EA31DC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F30-0225-40E8-BA5F-D7ABDE9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11A-4F9C-487E-9E3C-15FA09A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0A7-5DFD-4830-B1F0-5E62261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5C3-BCC0-4BA3-B2E4-C1D6244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CDF-C2FC-4F6E-827F-2264E178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7BDF4-6757-4CB2-9614-8C55A65B7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