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04257"/>
        <c:axId val="72989209"/>
      </c:barChart>
      <c:catAx>
        <c:axId val="33604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89209"/>
        <c:crosses val="autoZero"/>
        <c:auto val="1"/>
        <c:lblAlgn val="ctr"/>
        <c:lblOffset val="100"/>
        <c:noMultiLvlLbl val="0"/>
      </c:catAx>
      <c:valAx>
        <c:axId val="72989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04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DCB-5F2A-4E01-B50E-F1C5AAD3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F05-7EAF-4F34-8C12-C97009DB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6E3-51DB-46A8-97EC-31A4B41D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AF4-9A9D-4C7C-8317-66FC7154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D3D-23A2-49EA-AAC1-4C84C50C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7B3-6B0C-4C28-BBDC-E11A2F47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3CA-15E9-4A1A-972A-8196E879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E11-E8EF-4D53-8BDF-5E4B4A12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3BF-AD14-42CB-BDF9-4A66D57C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B74-4BC7-40F1-B81E-9BC075DA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9DF-12A2-4A99-BB34-697C30A8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22C-28F9-45A4-AAB7-F1EC3641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06C49-BB0E-44C4-93CB-835DED1306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