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19381"/>
        <c:axId val="83073093"/>
      </c:barChart>
      <c:catAx>
        <c:axId val="16719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3093"/>
        <c:crosses val="autoZero"/>
        <c:auto val="1"/>
        <c:lblAlgn val="ctr"/>
        <c:lblOffset val="100"/>
        <c:noMultiLvlLbl val="0"/>
      </c:catAx>
      <c:valAx>
        <c:axId val="83073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19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5A5-BC08-4249-AE0F-9650F94F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6AF-A381-490D-8C81-BEBDFC6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4D6-E926-4386-8EFC-E9C41D3B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F72-1953-45D1-87FE-9B5A74A6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7F4-4AEE-4A31-98F1-8AA26A86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271-77C9-499D-BBCC-0E4074A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968-6134-4D4D-81AA-455C03E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EAE-2FCF-43F3-83D8-A62709C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2DB-FB33-4750-8546-A85325EF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C84-F0D2-43D6-B007-C2E97A6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F3E-6D8F-487A-A0F0-A9F340C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32E-DB8B-4844-84C8-4DFEE0A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DA183-1E9E-4F64-83D0-ED99CB2128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