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95768"/>
        <c:axId val="29571891"/>
      </c:barChart>
      <c:catAx>
        <c:axId val="79495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71891"/>
        <c:crosses val="autoZero"/>
        <c:auto val="1"/>
        <c:lblAlgn val="ctr"/>
        <c:lblOffset val="100"/>
        <c:noMultiLvlLbl val="0"/>
      </c:catAx>
      <c:valAx>
        <c:axId val="29571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95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E17-BB95-491B-BE79-881E03CC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A0E-129D-4291-8EEB-B94214BA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C40-91DD-4A0E-AE76-29DA15CE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89D-F091-4A29-B990-B59322E2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795-5585-4AF4-902E-80669C5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162-B208-42B1-BCB8-B55745EF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264-366A-4C35-B3C7-8B4B0455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F10-0BA9-4E1D-B4F9-0C5827D3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71C-02AE-4F0D-BC17-5E0324ED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E16-42BE-417F-838D-605B156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C80-3471-49A8-9EA1-E65FFD2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95A-9803-40C3-B243-23BE71F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6488-7BD3-455B-8B88-6741215966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