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16175"/>
        <c:axId val="55173601"/>
      </c:barChart>
      <c:catAx>
        <c:axId val="10916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73601"/>
        <c:crosses val="autoZero"/>
        <c:auto val="1"/>
        <c:lblAlgn val="ctr"/>
        <c:lblOffset val="100"/>
        <c:noMultiLvlLbl val="0"/>
      </c:catAx>
      <c:valAx>
        <c:axId val="55173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16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50C-61BF-470E-8722-3C051BAF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A75-292A-4041-97F5-5D262DB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C44-088F-4CDD-A61B-4CC371E4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579-09A7-4D81-B33E-465CB773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AFB-3D30-4628-BBEE-54A86489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28F-3381-4EE8-A96C-8D1468E2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96D-829A-4FF8-BCB7-8289CD6A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C7E-9C8D-4AE1-A4B7-AB8190B3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7BC-BFD5-4F71-9D7E-C1EE781F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9CD-BED8-4A05-B61F-5C0BC834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5F4-FAE2-426A-AD16-7BAA8B50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E92-357F-4AE0-AE38-74F2F9DC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8A96A-5E81-4F51-8F5D-26A13908C4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