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72825"/>
        <c:axId val="3972508"/>
      </c:barChart>
      <c:catAx>
        <c:axId val="90772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2508"/>
        <c:crosses val="autoZero"/>
        <c:auto val="1"/>
        <c:lblAlgn val="ctr"/>
        <c:lblOffset val="100"/>
        <c:noMultiLvlLbl val="0"/>
      </c:catAx>
      <c:valAx>
        <c:axId val="3972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72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84C-B151-4C2D-8D1B-FCEA0FD6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F497-D4DB-4D18-A9F3-5BA194D6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76C7-013D-436F-8A01-8888F03C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2B40-6FFB-45E1-B87D-C515CF00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514-5D69-4F18-9C2B-DE80C8BA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CC3D-4E10-4931-BE6D-85385814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AE3-2262-4141-BB26-0F0DC913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3A5-CA21-491B-A7E4-10639722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8D61-99A0-4F0E-900F-C5D002EE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6B3-FFFD-4496-86F5-82569E56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4B2-33CC-465C-A92E-F1799CFE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44D-7F36-439F-88D3-E22C33DE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A576D-8289-40FB-9EEB-A356AA8FEB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