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52905"/>
        <c:axId val="6995088"/>
      </c:barChart>
      <c:catAx>
        <c:axId val="10152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5088"/>
        <c:crosses val="autoZero"/>
        <c:auto val="1"/>
        <c:lblAlgn val="ctr"/>
        <c:lblOffset val="100"/>
        <c:noMultiLvlLbl val="0"/>
      </c:catAx>
      <c:valAx>
        <c:axId val="6995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52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005-C825-492E-802D-48E7F037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0DD-F6DB-4BF4-A22D-0B79EC87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074-1C48-423D-99C5-EB48A296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E17D-4557-4628-8F12-E2C3AEC9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157-E20A-494B-928D-00F47F03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C94-272F-446B-907C-44E50682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2DD-20F2-499E-9265-677E16B2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A73-67A4-46D6-831B-A896BB97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940-DFBA-4CDF-833F-5D6FDCBD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BBD-FC31-4ADE-A129-C1E7DA80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A6C-288F-45C6-B33F-99228EDE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8BE-B3E5-41D8-A255-74D79E95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81324-FA45-410B-9306-B8343DB1AD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