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95B20-2834-4286-9393-E9C46654A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2280-03DD-4D0F-A844-4E4B03EA7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2A3C7-D2DF-421B-8994-158AC50AE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5969-B8EC-4E84-AF51-C8CD7E5966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A46F-7858-44DB-AE1E-BE9BBF332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35F28-089E-451B-8FD4-F3942DD2F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E0E09-C9A1-4CDD-92EB-5C8F70A22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13FB-CFAB-4B95-B047-EBCBE26D2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02E4-369D-4B29-AFE5-88FD34690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DF46-020D-4550-AE03-4FB1AFD72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B6C7-6ABE-475B-B96C-35E4D5EF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40E4-BF96-4B9F-9D79-DBE0292E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CC77F-67F8-4EC1-92D6-D7FDEC8FE1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of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xt for vie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4648320" y="1601640"/>
          <a:ext cx="4038480" cy="2181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48320" y="1601640"/>
                    <a:ext cx="4038480" cy="218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819760" y="412596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3124080" y="3352680"/>
            <a:ext cx="266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grap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7620120" y="36576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ket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1521000" y="1400040"/>
          <a:ext cx="6037200" cy="401184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1000" y="1400040"/>
                    <a:ext cx="6037200" cy="401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IBMer</cp:lastModifiedBy>
  <dcterms:modified xsi:type="dcterms:W3CDTF">2012-07-16T08:58:29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