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40AD-5449-4CB0-861D-34F62E307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3033-C766-4626-B89C-47693BCA1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B2F4-2BB3-4F7C-8AB0-D4C22082A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EFD-91BA-4AB5-B6F6-5779E8A54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3C01E-B67A-44E1-819D-3D4A5CA86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44553-798B-4D0C-8A93-5C5227F34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A5142-9EFB-4ABD-9E60-214625E91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F4E-FA4B-416D-9D55-139C9974A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2E2C1-09C6-484A-A7D2-C76228FB9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C86F-E29F-4D1D-8CE4-0703D4581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1488-2636-4790-979D-EB313A9B0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9FEB-AE23-434D-9D30-E30EFC32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B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E7D28-AD16-42A0-865A-EF0F14BF2D72}" type="slidenum">
              <a:rPr b="0" lang="fr-B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est extraction properties</a:t>
            </a:r>
            <a:br>
              <a:rPr sz="4400"/>
            </a:b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2T13:30:53Z</dcterms:created>
  <dc:creator>JOUVIN ETIENNE</dc:creator>
  <dc:description/>
  <dc:language>en-US</dc:language>
  <cp:lastModifiedBy>EJ04325S</cp:lastModifiedBy>
  <dcterms:modified xsi:type="dcterms:W3CDTF">2011-08-22T13:32:58Z</dcterms:modified>
  <cp:revision>4</cp:revision>
  <dc:subject/>
  <dc:title>Test extraction properties pptx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yCustomDate">
    <vt:filetime>2010-12-30T22:00:00Z</vt:filetime>
  </property>
  <property fmtid="{D5CDD505-2E9C-101B-9397-08002B2CF9AE}" pid="3" name="MyCustomString">
    <vt:lpwstr>MyStringValue</vt:lpwstr>
  </property>
  <property fmtid="{D5CDD505-2E9C-101B-9397-08002B2CF9AE}" pid="4" name="myCustomBoolean">
    <vt:bool>1</vt:bool>
  </property>
  <property fmtid="{D5CDD505-2E9C-101B-9397-08002B2CF9AE}" pid="5" name="myCustomNumber">
    <vt:r8>3</vt:r8>
  </property>
  <property fmtid="{D5CDD505-2E9C-101B-9397-08002B2CF9AE}" pid="6" name="myCustomSecondDate">
    <vt:filetime>2010-12-29T22:00:00Z</vt:filetime>
  </property>
</Properties>
</file>