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9AD76-F156-44C7-BC45-1B2CF49A5CA0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EDADE5BC-F9B2-4742-BE3F-09F5A1D935D6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696E-0F76-49AB-B8BF-2FDCEE87BD4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0222FF-4C64-4232-8DE6-1D09E7F46A6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A532C-C4A1-46C1-BBA0-FD7648A2648F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fld id="{12B9EAAD-EC52-4CA3-B4CD-117269EEDC8A}" type="datetime12">
              <a:rPr b="0" lang="en-US" sz="1200" spc="-1" strike="noStrike">
                <a:solidFill>
                  <a:srgbClr val="000000"/>
                </a:solidFill>
                <a:latin typeface="Calibri"/>
              </a:rPr>
              <a:t>05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1A7D-7698-431E-8045-F23309484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292C-DC29-4B36-AC29-8E753484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16B13-169D-48CF-808A-2CE41B49F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D4E9B-15C0-47BF-B447-4D3B27BC5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8B659-351A-439B-8ADC-2ABBA201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A016A-2473-47A4-9FB4-CB4865D87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5DE2-01F8-4B5E-A5F3-D11BE1FA3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153E-7994-4321-9BB4-FDF401409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B4F40-28E1-414F-88D5-A0049A523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8C9E-498E-4D6B-A882-46FE27857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69A17-E65B-4074-9995-CDA18F954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4B234-0E92-4F6D-9FA6-7385AD9D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C8026-48A6-4B5A-BD59-F303B29B101F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F68588DB-D35C-423C-A24A-96E6B5641B8B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0E392-C7DB-4196-A80A-E17D11F1BF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w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1EE6F-7735-4713-B8AF-BD00BAE0D39C}" type="datetime">
              <a:rPr b="0" lang="en-US" sz="3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fld id="{1A94897C-D23E-44CC-8BA9-757E06DD7613}" type="datetime12">
              <a:rPr b="0" lang="en-US" sz="3200" spc="-1" strike="noStrike">
                <a:solidFill>
                  <a:srgbClr val="898989"/>
                </a:solidFill>
                <a:latin typeface="Calibri"/>
              </a:rPr>
              <a:t>05:59 AM</a:t>
            </a:fld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43C4E-A6B2-47EF-A989-8808622B46B4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 </a:t>
            </a:r>
            <a:fld id="{AAE14516-A618-4AD6-BDC7-2967FFF8C973}" type="datetime12">
              <a:rPr b="0" lang="en-US" sz="1200" spc="-1" strike="noStrike">
                <a:solidFill>
                  <a:srgbClr val="898989"/>
                </a:solidFill>
                <a:latin typeface="Calibri"/>
              </a:rPr>
              <a:t>05:59 AM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6T21:06:02Z</dcterms:created>
  <dc:creator>Albert Law 2</dc:creator>
  <dc:description/>
  <dc:language>en-US</dc:language>
  <cp:lastModifiedBy>Albert Law 2</cp:lastModifiedBy>
  <dcterms:modified xsi:type="dcterms:W3CDTF">2011-12-16T21:11:07Z</dcterms:modified>
  <cp:revision>3</cp:revision>
  <dc:subject/>
  <dc:title>Now</dc:title>
</cp:coreProperties>
</file>