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commentAuthors.xml><?xml version="1.0" encoding="utf-8"?>
<p:cmAuthorLst xmlns:p="http://schemas.openxmlformats.org/presentationml/2006/main">
  <p:cmAuthor id="0" name="Allison, Timothy B." initials="ATB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5-09-30T13:57:43.705000000" idx="1">
    <p:pos x="3608" y="1657"/>
    <p:text>I'm afraid I'm going to have to ask you to add some content to this tps deck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49548-C942-4F13-8A68-99095A30E9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068-F685-41E5-96A9-2A6BFD5BE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D9E3-0E64-46E2-8304-05A00F553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9DB65-CD83-4CEF-8023-24E158A9F6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3531-07F6-4585-B50C-7C29E57D7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0D7-75DF-4250-ABC6-99F1F00B0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4796-E229-4874-88A9-C3A002A1F1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82C-95C1-4ABB-B035-A8863C3C5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1B4E-8D9C-4377-9689-3D15F70E7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29E23-3447-40D9-BABE-F31EFEE9F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0332-6F4F-4DF8-8D6C-24FC0F58A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29EC-1C5A-4200-873C-0C12405CB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605C9-055F-44DA-B43D-1BA0CBA875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itle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ubtit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30T17:58:06Z</dcterms:created>
  <dc:creator>Allison, Timothy B.</dc:creator>
  <dc:description/>
  <dc:language>en-US</dc:language>
  <cp:lastModifiedBy>Allison, Timothy B.</cp:lastModifiedBy>
  <dcterms:modified xsi:type="dcterms:W3CDTF">2015-09-30T18:02:50Z</dcterms:modified>
  <cp:revision>1</cp:revision>
  <dc:subject/>
  <dc:title>title</dc:title>
</cp:coreProperties>
</file>